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whoosh.wav" ContentType="audio/x-wav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FE7B-3104-48AD-9795-3110EE46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584B-B681-4075-AF9A-B106D817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AA8A-E98A-47F6-89A5-9BCC24DFB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2502-3386-4A65-98F6-84A379BAB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5C72-1C71-45B1-8E48-5B9C3AA6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AEC5-7647-4C61-AF1A-B6CA847F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79C5-7602-4D6E-8327-7057BB25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2806-480B-4E31-B382-6D1C352F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9368-74BF-4DCA-B0A7-0ED126A2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D133-FC01-4A5C-9A02-B7F586D1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897C-A6D6-406B-A292-A52EAFCD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0C9C-1811-417E-9C13-CDBC2C7F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A18E-4751-402D-8B7A-2767A8BDD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0000"/>
                </a:solidFill>
                <a:latin typeface="Palatia"/>
              </a:rPr>
              <a:t>Greetings &amp;Welcome</a:t>
            </a:r>
            <a:br>
              <a:rPr sz="5400"/>
            </a:br>
            <a:br>
              <a:rPr sz="2000"/>
            </a:br>
            <a:br>
              <a:rPr sz="2000"/>
            </a:br>
            <a:r>
              <a:rPr b="0" lang="en-US" sz="3200" spc="-1" strike="noStrike">
                <a:solidFill>
                  <a:srgbClr val="000000"/>
                </a:solidFill>
                <a:latin typeface="Palatia"/>
              </a:rPr>
              <a:t>t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3200400"/>
            <a:ext cx="8534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800000"/>
                </a:solidFill>
                <a:latin typeface="Palatia"/>
              </a:rPr>
              <a:t>Elementary Visual Ar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a"/>
              </a:rPr>
              <a:t>Grade 2  used paper sculpture techniques and their knowledge of rainforest animals from a unit in science in order to  produce effective and detailed animal  ma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3070080" y="2314440"/>
            <a:ext cx="325440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4290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a"/>
              </a:rPr>
              <a:t>Grade 4 learns about printmaking and the use of opposite col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4191120" y="2133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a"/>
              </a:rPr>
              <a:t>Grade 1 uses paint and collage technique in this “Under the Sea” compos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958680" y="2019240"/>
            <a:ext cx="2622600" cy="4381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4800600" y="3706920"/>
            <a:ext cx="34290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latia"/>
              </a:rPr>
              <a:t>Kindergarten &amp; Grade 1 paint self-portrai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949320" y="2286000"/>
            <a:ext cx="2708280" cy="4162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2"/>
          <a:stretch/>
        </p:blipFill>
        <p:spPr>
          <a:xfrm>
            <a:off x="5140440" y="2743200"/>
            <a:ext cx="278424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a"/>
              </a:rPr>
              <a:t>Grade 3 uses collage to learn about distance in a picture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279440" y="57006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457200" y="175248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a"/>
              </a:rPr>
              <a:t>Grade 4 learns a charcoal technique to help them learn about drawing solid fo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676440" y="4038480"/>
            <a:ext cx="3514680" cy="2190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2"/>
          <a:stretch/>
        </p:blipFill>
        <p:spPr>
          <a:xfrm>
            <a:off x="4981680" y="4121280"/>
            <a:ext cx="340020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Palatia"/>
              </a:rPr>
              <a:t>Aesthetics/Visual Art in a cultural sett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3657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a"/>
              </a:rPr>
              <a:t>Students look at artwork from various artists and cultures and use what they see as inspiration for their own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a"/>
              </a:rPr>
              <a:t>They might look at the work of Vincent Van Gogh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3610080" cy="2587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2"/>
          <a:stretch/>
        </p:blipFill>
        <p:spPr>
          <a:xfrm>
            <a:off x="4791240" y="3102120"/>
            <a:ext cx="366696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a"/>
              </a:rPr>
              <a:t>. .or Australian Aboriginal people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600120" y="2984400"/>
            <a:ext cx="3743280" cy="2349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4876920" y="3029040"/>
            <a:ext cx="380052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a"/>
              </a:rPr>
              <a:t>. . .or work from observ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762120" y="54864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a"/>
              </a:rPr>
              <a:t>Drawings by Grad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9" descr=""/>
          <p:cNvPicPr/>
          <p:nvPr/>
        </p:nvPicPr>
        <p:blipFill>
          <a:blip r:embed="rId2"/>
          <a:stretch/>
        </p:blipFill>
        <p:spPr>
          <a:xfrm>
            <a:off x="304920" y="2590920"/>
            <a:ext cx="4076640" cy="2527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"/>
          <p:cNvPicPr/>
          <p:nvPr/>
        </p:nvPicPr>
        <p:blipFill>
          <a:blip r:embed="rId3"/>
          <a:stretch/>
        </p:blipFill>
        <p:spPr>
          <a:xfrm>
            <a:off x="4648320" y="2590920"/>
            <a:ext cx="40384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a"/>
              </a:rPr>
              <a:t>. . .or memo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523880" y="5257800"/>
            <a:ext cx="609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International Flag Ceremony, Grad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1876320" y="1676520"/>
            <a:ext cx="5438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a"/>
              </a:rPr>
              <a:t>. .or from a combination of knowledge, memory and imagin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905120" y="594360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Grade 2 water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2057400" y="2451240"/>
            <a:ext cx="498168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Palatia"/>
              </a:rPr>
              <a:t>ELEMENTARY 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26668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Elements &amp; Principles of Design—the basic “ingredients” of visual art; the language of 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Art Production—Materials, techniques &amp;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Aesthetics/Art in a cultural s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33520" y="160020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The entire Elementary Art program is based on three broad, overlapping are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a"/>
              </a:rPr>
              <a:t>There are some basic rules and routines in the art room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Wear protective clo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Be attentive to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Try your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Use the materials as they are intended to b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Be very careful with scis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Ask the teacher questions if you do not under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Respect other people’s artwork—look but do not touc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266652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It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* holds all of his artwork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* shows his progress over tim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* is used for assessment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* provides work for exhibitions in school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04920" y="228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Your child’s portfolio looks something like t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380880" y="502920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It will be sent home during the year for you to look at and at the end of the year it will be sent home permanen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1"/>
          <a:stretch/>
        </p:blipFill>
        <p:spPr>
          <a:xfrm>
            <a:off x="2514600" y="731880"/>
            <a:ext cx="266688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00"/>
                </a:solidFill>
                <a:latin typeface="Palatia"/>
              </a:rPr>
              <a:t>Elements &amp; Principles of Design</a:t>
            </a:r>
            <a:r>
              <a:rPr b="1" lang="en-US" sz="4800" spc="-1" strike="noStrike">
                <a:solidFill>
                  <a:srgbClr val="cc0000"/>
                </a:solidFill>
                <a:latin typeface="Palatia"/>
              </a:rPr>
              <a:t>:</a:t>
            </a:r>
            <a:br>
              <a:rPr sz="4800"/>
            </a:br>
            <a:r>
              <a:rPr b="1" lang="en-US" sz="4400" spc="-1" strike="noStrike">
                <a:solidFill>
                  <a:srgbClr val="000000"/>
                </a:solidFill>
                <a:latin typeface="Palatia"/>
              </a:rPr>
              <a:t>the basic “ingredients” and language of Visual Art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33520" y="4114800"/>
            <a:ext cx="8305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latia"/>
              </a:rPr>
              <a:t>Line, Shape, Value, Color, Texture, Contrast, Balanc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Palatia"/>
              </a:rPr>
              <a:t>Pattern, Un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a"/>
              </a:rPr>
              <a:t>Art activities are age appropri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85800" y="32004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90720" y="59436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a"/>
              </a:rPr>
              <a:t>Kindergarten &amp; Grade 1 Ar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1762200" y="1593720"/>
            <a:ext cx="5324400" cy="39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4876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latia"/>
              </a:rPr>
              <a:t>Grade 1 learns about borders and backgro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600200" y="511200"/>
            <a:ext cx="595296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a"/>
              </a:rPr>
              <a:t>Grade 4 learns about composition, balance, and the element of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507960" y="2743200"/>
            <a:ext cx="2997360" cy="3533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4114800" y="4495680"/>
            <a:ext cx="4724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a"/>
              </a:rPr>
              <a:t>Grade 5 learns about color schemes, composition and genres of art</a:t>
            </a:r>
            <a:r>
              <a:rPr b="1" lang="en-US" sz="2800" spc="-1" strike="noStrike">
                <a:solidFill>
                  <a:srgbClr val="000000"/>
                </a:solidFill>
                <a:latin typeface="Pala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762120" y="2743200"/>
            <a:ext cx="2987640" cy="3343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2"/>
          <a:stretch/>
        </p:blipFill>
        <p:spPr>
          <a:xfrm>
            <a:off x="4191120" y="2971800"/>
            <a:ext cx="44193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Palatia"/>
              </a:rPr>
              <a:t>Art Production/Materials &amp;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Students learn how to effectively use various  materials to create original artwork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2819520" y="3521160"/>
            <a:ext cx="38671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Palatia"/>
              </a:rPr>
              <a:t>Grade 5 weaving effectively combines the elements of Line, Color, and Tex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2895480" y="457200"/>
            <a:ext cx="333396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4T18:17:58Z</dcterms:created>
  <dc:creator>Seaton</dc:creator>
  <dc:description/>
  <dc:language>en-US</dc:language>
  <cp:lastModifiedBy>JS</cp:lastModifiedBy>
  <dcterms:modified xsi:type="dcterms:W3CDTF">2009-10-22T15:11:37Z</dcterms:modified>
  <cp:revision>14</cp:revision>
  <dc:subject/>
  <dc:title>PowerPoint Presentation</dc:title>
</cp:coreProperties>
</file>