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whoosh.wav" ContentType="audio/x-wav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9B2-D728-48A2-95CA-D8560D61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755-6991-4270-A34B-1BC517F2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054-F7AD-401F-AF06-40640C90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7C8-11BB-48E7-8623-44448FE8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73C-10AE-4A18-B032-295C3CE8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059-A5E5-4761-AF92-0805104B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D1C-7102-4E9A-8C45-3A63FBC5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C4D-C731-487F-ABE3-5BDBD176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2DF-7F21-489C-B7BE-274358A7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455-4300-42A4-ADC9-467A62FF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F4F-9D77-4EE1-B10A-75E47950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9B1-F6E3-4FD8-9845-A059D380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B696-732F-4836-ACA9-324FD12D7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Palatia"/>
              </a:rPr>
              <a:t>Greetings &amp;Welcome</a:t>
            </a:r>
            <a:br>
              <a:rPr sz="5400"/>
            </a:b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Palatia"/>
              </a:rPr>
              <a:t>Elementary Visual 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Grade 2  used paper sculpture techniques and their knowledge of rainforest animals from a unit in science in order to  produce effective and detailed animal  ma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070080" y="2314440"/>
            <a:ext cx="32544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429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Grade 4 learns about printmaking and the use of opposite co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191120" y="21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Grade 1 uses paint and collage technique in this “Under the Sea”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958680" y="2019240"/>
            <a:ext cx="2622600" cy="438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4800600" y="3706920"/>
            <a:ext cx="3429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Kindergarten &amp; Grade 1 paint self-portrai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949320" y="2286000"/>
            <a:ext cx="2708280" cy="416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5140440" y="2743200"/>
            <a:ext cx="27842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a"/>
              </a:rPr>
              <a:t>Grade 3 uses collage to learn about distance in a pictur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279440" y="5700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" y="17524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a"/>
              </a:rPr>
              <a:t>Grade 4 learns a charcoal technique to help them learn about drawing solid fo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676440" y="4038480"/>
            <a:ext cx="3514680" cy="2190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4981680" y="4121280"/>
            <a:ext cx="34002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Palatia"/>
              </a:rPr>
              <a:t>Aesthetics/Visual Art in a cultural set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a"/>
              </a:rPr>
              <a:t>Students look at artwork from various artists and cultures and use what they see as inspiration for their own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They might look at the work of Vincent Van Gogh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610080" cy="258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4791240" y="3102120"/>
            <a:ext cx="366696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. .or Australian Aboriginal people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00120" y="2984400"/>
            <a:ext cx="3743280" cy="234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4876920" y="3029040"/>
            <a:ext cx="38005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. . .or work from ob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62120" y="5486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Drawings by Gra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076640" cy="252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3"/>
          <a:stretch/>
        </p:blipFill>
        <p:spPr>
          <a:xfrm>
            <a:off x="4648320" y="2590920"/>
            <a:ext cx="4038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. . .or mem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3880" y="52578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International Flag Ceremony, Grad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876320" y="1676520"/>
            <a:ext cx="54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. .or from a combination of knowledge, memory and imagin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905120" y="59436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Grade 2 water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057400" y="2451240"/>
            <a:ext cx="49816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a"/>
              </a:rPr>
              <a:t>ELEMENTARY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Elements &amp; Principles of Design—the basic “ingredients” of visual art; the language of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Art Production—Materials, techniques &amp;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Aesthetics/Art in a cultural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520" y="160020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The entire Elementary Art program is based on three broad, overlapping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a"/>
              </a:rPr>
              <a:t>There are some basic rules and routines in the art room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Wear protective 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Be attentive to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Try your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Use the materials as they are intended to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Be very careful with sci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Ask the teacher questions if you do not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Respect other people’s artwork—look but do not t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It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* holds all of his artwor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* shows his progress over tim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* is used for assessment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* provides work for exhibitions in school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04920" y="228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Your child’s portfolio looks something lik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80880" y="50292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It will be sent home during the year for you to look at and at the end of the year it will be sent home perman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514600" y="731880"/>
            <a:ext cx="266688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Palatia"/>
              </a:rPr>
              <a:t>Elements &amp; Principles of Design</a:t>
            </a:r>
            <a:r>
              <a:rPr b="1" lang="en-US" sz="4800" spc="-1" strike="noStrike">
                <a:solidFill>
                  <a:srgbClr val="cc0000"/>
                </a:solidFill>
                <a:latin typeface="Palatia"/>
              </a:rPr>
              <a:t>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the basic “ingredients” and language of Visual Ar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3520" y="411480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Line, Shape, Value, Color, Texture, Contrast, Balan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Pattern, 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a"/>
              </a:rPr>
              <a:t>Art activities are age appropr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3200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90720" y="5943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Kindergarten &amp; Grade 1 Ar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762200" y="1593720"/>
            <a:ext cx="53244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a"/>
              </a:rPr>
              <a:t>Grade 1 learns about borders and backgr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600200" y="511200"/>
            <a:ext cx="59529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Grade 4 learns about composition, balance, and the element of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507960" y="2743200"/>
            <a:ext cx="2997360" cy="353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4114800" y="4495680"/>
            <a:ext cx="4724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Grade 5 learns about color schemes, composition and genres of art</a:t>
            </a:r>
            <a:r>
              <a:rPr b="1" lang="en-US" sz="2800" spc="-1" strike="noStrike">
                <a:solidFill>
                  <a:srgbClr val="000000"/>
                </a:solidFill>
                <a:latin typeface="Pala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2987640" cy="334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191120" y="2971800"/>
            <a:ext cx="4419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Palatia"/>
              </a:rPr>
              <a:t>Art Production/Materials &amp;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Palatia"/>
              </a:rPr>
              <a:t>Students learn how to effectively use various  materials to create original artwor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19520" y="3521160"/>
            <a:ext cx="3867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Palatia"/>
              </a:rPr>
              <a:t>Grade 5 weaving effectively combines the elements of Line, Color, and Tex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33339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8:17:58Z</dcterms:created>
  <dc:creator>Seaton</dc:creator>
  <dc:description/>
  <dc:language>en-US</dc:language>
  <cp:lastModifiedBy>JS</cp:lastModifiedBy>
  <dcterms:modified xsi:type="dcterms:W3CDTF">2009-10-22T15:11:37Z</dcterms:modified>
  <cp:revision>14</cp:revision>
  <dc:subject/>
  <dc:title>PowerPoint Presentation</dc:title>
</cp:coreProperties>
</file>