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C63-9F06-4915-A2C0-7D344794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819-21D7-4F8D-94BB-999CEC49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734-1E40-43BD-9F27-E277CB76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909-5248-4B46-ADB6-0990BB78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A24-F397-4D51-9DC7-DBD5C3DF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97F-8F17-44CC-922D-07486A67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44F-BAA6-45AA-B953-B1E54C87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B49-3F5D-4B42-9F19-CF8ABE1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C7D-EA57-4AAD-ABE6-AE46E1C1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231-6DC1-4FE7-BC0D-247B8CE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4DA-8CFA-443E-AD30-AC1D8F15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672-2A75-4854-A004-729E248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74D-7273-4A4B-998B-D4B4F6F92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Palatia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Palatia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a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a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Palatia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a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a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Palatia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Palatia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a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Pala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Palatia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Palatia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JS</cp:lastModifiedBy>
  <dcterms:modified xsi:type="dcterms:W3CDTF">2009-10-22T15:11:37Z</dcterms:modified>
  <cp:revision>14</cp:revision>
  <dc:subject/>
  <dc:title>PowerPoint Presentation</dc:title>
</cp:coreProperties>
</file>