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2EA-1504-4D95-9EE8-45F56354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2CE-E8DF-46F4-BACE-F29654FA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FE8-1057-4314-BA43-3A04710B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381-6B6A-4226-8281-84356F3C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DFD-0DA7-4805-8E89-E827DD3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C4B-C839-483C-8C74-DCAF2A7E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92A-E46A-4B4E-A1BD-A0A54FE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B6A-ED54-4261-9582-3813E056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903-C6EB-4050-9023-010487EB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9B0-6434-49B8-8589-C811B127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BE0-DD18-4C7F-BF01-8104A544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8DF-BE11-48D2-A3B9-5108FD6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789-8708-4E4F-83B4-7D89AD22B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Palatia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Palatia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Palatia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a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a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Palatia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Palatia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a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Pala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Palatia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latia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JS</cp:lastModifiedBy>
  <dcterms:modified xsi:type="dcterms:W3CDTF">2009-10-22T15:11:37Z</dcterms:modified>
  <cp:revision>14</cp:revision>
  <dc:subject/>
  <dc:title>PowerPoint Presentation</dc:title>
</cp:coreProperties>
</file>