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whoosh.wav" ContentType="audio/x-wav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2F04-0EA5-47F8-ADE9-CE3698DAC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1A12-DFF7-4691-8BE3-32D23BFB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33B4-6056-40CC-A6E1-9C05EBEF7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F000-DB63-419F-AA6C-D207AD852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68FC-4006-4182-950F-A395A197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F228-9352-4505-8CFB-EEB435D4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4908-14C1-457D-8E01-48640705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E27C-4B3D-4D94-BEDE-42C548DB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5598-00D1-472E-A19E-7DBAC3B3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A5C2-46FA-4338-9A2C-D0551B42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D9D6-8D59-49ED-9D65-35DD5071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6C81-DFC1-47E6-8C63-0D94DA62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9A74-5AE6-4CB0-A9DA-61A1135EB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0000"/>
                </a:solidFill>
                <a:latin typeface="Comic Sans MS"/>
              </a:rPr>
              <a:t>Greetings &amp;Welcome</a:t>
            </a:r>
            <a:br>
              <a:rPr sz="5400"/>
            </a:br>
            <a:br>
              <a:rPr sz="2000"/>
            </a:br>
            <a:br>
              <a:rPr sz="20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3200400"/>
            <a:ext cx="8534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800000"/>
                </a:solidFill>
                <a:latin typeface="Comic Sans MS"/>
              </a:rPr>
              <a:t>Elementary Visual Ar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de 2  used paper sculpture techniques and their knowledge of rainforest animals from a unit in science in order to  produce effective and detailed animal  ma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3070080" y="2314440"/>
            <a:ext cx="325440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4290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de 4 learns about printmaking and the use of opposite col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4191120" y="2133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de 1 uses paint and collage technique in this “Under the Sea” compos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958680" y="2019240"/>
            <a:ext cx="2622600" cy="4381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4800600" y="3706920"/>
            <a:ext cx="34290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Kindergarten &amp; Grade 1 paint self-portrai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949320" y="2286000"/>
            <a:ext cx="2708280" cy="4162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2"/>
          <a:stretch/>
        </p:blipFill>
        <p:spPr>
          <a:xfrm>
            <a:off x="5140440" y="2743200"/>
            <a:ext cx="278424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ade 3 uses collage to learn about distance in a picture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279440" y="57006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457200" y="175248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ade 4 learns a charcoal technique to help them learn about drawing solid fo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676440" y="4038480"/>
            <a:ext cx="3514680" cy="2190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2"/>
          <a:stretch/>
        </p:blipFill>
        <p:spPr>
          <a:xfrm>
            <a:off x="4981680" y="4121280"/>
            <a:ext cx="340020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Comic Sans MS"/>
              </a:rPr>
              <a:t>Aesthetics/Visual Art in a cultural sett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3657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udents look at artwork from various artists and cultures and use what they see as inspiration for their own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y might look at the work of Vincent Van Gogh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3610080" cy="2587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2"/>
          <a:stretch/>
        </p:blipFill>
        <p:spPr>
          <a:xfrm>
            <a:off x="4791240" y="3102120"/>
            <a:ext cx="366696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 .or Australian Aboriginal people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600120" y="2984400"/>
            <a:ext cx="3743280" cy="2349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4876920" y="3029040"/>
            <a:ext cx="380052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 . .or work from observ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762120" y="54864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wings by Grad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9" descr=""/>
          <p:cNvPicPr/>
          <p:nvPr/>
        </p:nvPicPr>
        <p:blipFill>
          <a:blip r:embed="rId2"/>
          <a:stretch/>
        </p:blipFill>
        <p:spPr>
          <a:xfrm>
            <a:off x="304920" y="2590920"/>
            <a:ext cx="4076640" cy="2527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"/>
          <p:cNvPicPr/>
          <p:nvPr/>
        </p:nvPicPr>
        <p:blipFill>
          <a:blip r:embed="rId3"/>
          <a:stretch/>
        </p:blipFill>
        <p:spPr>
          <a:xfrm>
            <a:off x="4648320" y="2590920"/>
            <a:ext cx="40384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 . .or memo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523880" y="5257800"/>
            <a:ext cx="609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tional Flag Ceremony, Grad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1876320" y="1676520"/>
            <a:ext cx="5438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 .or from a combination of knowledge, memory and imagin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905120" y="594360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de 2 water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2057400" y="2451240"/>
            <a:ext cx="498168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ELEMENTARY 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s &amp; Principles of Design—the basic “ingredients” of visual art; the language of 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t Production—Materials, techniques &amp;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esthetics/Art in a cultural s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33520" y="160020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entire Elementary Art program is based on three broad, overlapping are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re are some basic rules and routines in the art room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ar protective clo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attentive to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y your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the materials as they are intended to b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very careful with scis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k the teacher questions if you do not under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ect other people’s artwork—look but do not touc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266652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 holds all of his artwork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 shows his progress over tim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 is used for assessment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 provides work for exhibitions in school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04920" y="228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r child’s portfolio looks something like t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380880" y="502920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will be sent home during the year for you to look at and at the end of the year it will be sent home permanen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1"/>
          <a:stretch/>
        </p:blipFill>
        <p:spPr>
          <a:xfrm>
            <a:off x="2514600" y="731880"/>
            <a:ext cx="266688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00"/>
                </a:solidFill>
                <a:latin typeface="Comic Sans MS"/>
              </a:rPr>
              <a:t>Elements &amp; Principles of Design</a:t>
            </a:r>
            <a:r>
              <a:rPr b="1" lang="en-US" sz="4800" spc="-1" strike="noStrike">
                <a:solidFill>
                  <a:srgbClr val="cc0000"/>
                </a:solidFill>
                <a:latin typeface="Comic Sans MS"/>
              </a:rPr>
              <a:t>:</a:t>
            </a:r>
            <a:br>
              <a:rPr sz="48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basic “ingredients” and language of Visual Art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33520" y="4114800"/>
            <a:ext cx="8305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ine, Shape, Value, Color, Texture, Contrast, Balanc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attern, Un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rt activities are age appropri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85800" y="32004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90720" y="59436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indergarten &amp; Grade 1 Ar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1762200" y="1593720"/>
            <a:ext cx="5324400" cy="39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4876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ade 1 learns about borders and backgro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600200" y="511200"/>
            <a:ext cx="595296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de 4 learns about composition, balance, and the element of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507960" y="2743200"/>
            <a:ext cx="2997360" cy="3533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4114800" y="4495680"/>
            <a:ext cx="4724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de 5 learns about color schemes, composition and genres of ar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762120" y="2743200"/>
            <a:ext cx="2987640" cy="3343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2"/>
          <a:stretch/>
        </p:blipFill>
        <p:spPr>
          <a:xfrm>
            <a:off x="4191120" y="2971800"/>
            <a:ext cx="44193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Comic Sans MS"/>
              </a:rPr>
              <a:t>Art Production/Materials &amp;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s learn how to effectively use various  materials to create original artwork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2819520" y="3521160"/>
            <a:ext cx="38671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Comic Sans MS"/>
              </a:rPr>
              <a:t>Grade 5 weaving effectively combines the elements of Line, Color, and Tex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2895480" y="457200"/>
            <a:ext cx="333396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4T18:17:58Z</dcterms:created>
  <dc:creator>Seaton</dc:creator>
  <dc:description/>
  <dc:language>en-US</dc:language>
  <cp:lastModifiedBy>Rosemary Mitchell</cp:lastModifiedBy>
  <dcterms:modified xsi:type="dcterms:W3CDTF">2008-06-10T18:51:28Z</dcterms:modified>
  <cp:revision>13</cp:revision>
  <dc:subject/>
  <dc:title>PowerPoint Presentation</dc:title>
</cp:coreProperties>
</file>