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86D-1830-405B-A963-2D968512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ED9-C579-40CE-BE4A-8DE6B64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465-9EC0-462C-8F89-9259AAF3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D75-4194-4B43-BBBE-BDDD12E3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4B3-B2CA-42E3-BC05-3ABD94F6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7A7-C5EA-4237-9EAB-A80D1DF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19B-50E5-4F59-8548-DD41E2A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980-2FF1-4A5F-88D2-352411D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E9C-3E99-4521-806D-8A87D5EA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DD8-91CD-4F2E-8A83-D8D953D9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443-507A-4C40-B4BD-B4F5F9D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AEA-D493-4BEF-AF3C-891E989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CF9F-F95A-44C5-B91D-5EFA2AA63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Comic Sans MS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Comic Sans MS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Comic Sans MS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Rosemary Mitchell</cp:lastModifiedBy>
  <dcterms:modified xsi:type="dcterms:W3CDTF">2008-06-10T18:51:28Z</dcterms:modified>
  <cp:revision>13</cp:revision>
  <dc:subject/>
  <dc:title>PowerPoint Presentation</dc:title>
</cp:coreProperties>
</file>