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whoosh.wav" ContentType="audio/x-wav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C67-261A-42C4-AE6F-40AA90DC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C64F-8851-4EE0-946F-79D9330D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2F8-4BD1-4714-982F-9C7C18AD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9E4E-67EF-48F1-B211-AC23808B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76AD-2409-44C4-BE15-13C8236F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CA2B-A37A-4FEB-ABAA-099C39F7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255-9B33-464A-B70A-71718115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071E-341D-485E-968D-A2D147EA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159-99AD-4A71-8D34-477A0752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A8A7-2A7B-423F-BCC5-4F00D9A1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1D4-3B5A-470F-A01D-747E18A6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7B74-C854-4E34-A65C-9D335F24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75CC-8137-4D1E-955E-9296F72B6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00"/>
                </a:solidFill>
                <a:latin typeface="Comic Sans MS"/>
              </a:rPr>
              <a:t>Greetings &amp;Welcome</a:t>
            </a:r>
            <a:br>
              <a:rPr sz="5400"/>
            </a:br>
            <a:br>
              <a:rPr sz="2000"/>
            </a:b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Comic Sans MS"/>
              </a:rPr>
              <a:t>Elementary Visual A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e 2  used paper sculpture techniques and their knowledge of rainforest animals from a unit in science in order to  produce effective and detailed animal  ma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070080" y="2314440"/>
            <a:ext cx="32544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429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e 4 learns about printmaking and the use of opposite col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191120" y="21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e 1 uses paint and collage technique in this “Under the Sea” com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958680" y="2019240"/>
            <a:ext cx="2622600" cy="4381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4800600" y="3706920"/>
            <a:ext cx="3429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Kindergarten &amp; Grade 1 paint self-portrai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949320" y="2286000"/>
            <a:ext cx="2708280" cy="4162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/>
          <a:stretch/>
        </p:blipFill>
        <p:spPr>
          <a:xfrm>
            <a:off x="5140440" y="2743200"/>
            <a:ext cx="27842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de 3 uses collage to learn about distance in a pictur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279440" y="5700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57200" y="17524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de 4 learns a charcoal technique to help them learn about drawing solid fo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676440" y="4038480"/>
            <a:ext cx="3514680" cy="2190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4981680" y="4121280"/>
            <a:ext cx="34002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Aesthetics/Visual Art in a cultural set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3657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udents look at artwork from various artists and cultures and use what they see as inspiration for their own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y might look at the work of Vincent Van Gogh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610080" cy="258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2"/>
          <a:stretch/>
        </p:blipFill>
        <p:spPr>
          <a:xfrm>
            <a:off x="4791240" y="3102120"/>
            <a:ext cx="366696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or Australian Aboriginal people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600120" y="2984400"/>
            <a:ext cx="3743280" cy="2349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4876920" y="3029040"/>
            <a:ext cx="38005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 .or work from obser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762120" y="5486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ings by Gra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4076640" cy="252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3"/>
          <a:stretch/>
        </p:blipFill>
        <p:spPr>
          <a:xfrm>
            <a:off x="4648320" y="2590920"/>
            <a:ext cx="4038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 .or mem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3880" y="525780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tional Flag Ceremony, Grad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876320" y="1676520"/>
            <a:ext cx="54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or from a combination of knowledge, memory and imagin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905120" y="59436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de 2 water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057400" y="2451240"/>
            <a:ext cx="49816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LEMENTARY 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&amp; Principles of Design—the basic “ingredients” of visual art; the language of 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t Production—Materials, techniques &amp;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esthetics/Art in a cultural 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520" y="160020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ntire Elementary Art program is based on three broad, overlapping 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re are some basic rules and routines in the art room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ar protective cl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attentive to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y your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the materials as they are intended to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very careful with sci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the teacher questions if you do not under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other people’s artwork—look but do not t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66652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holds all of his artwork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shows his progress over tim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is used for assessment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provides work for exhibitions in school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04920" y="228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child’s portfolio looks something like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80880" y="502920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will be sent home during the year for you to look at and at the end of the year it will be sent home perman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2514600" y="731880"/>
            <a:ext cx="266688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Comic Sans MS"/>
              </a:rPr>
              <a:t>Elements &amp; Principles of Design</a:t>
            </a: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basic “ingredients” and language of Visual Ar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33520" y="4114800"/>
            <a:ext cx="830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ine, Shape, Value, Color, Texture, Contrast, Balan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attern, 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t activities are age appropr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5800" y="3200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90720" y="5943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ndergarten &amp; Grade 1 Ar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1762200" y="1593720"/>
            <a:ext cx="532440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de 1 learns about borders and backgr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600200" y="511200"/>
            <a:ext cx="595296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e 4 learns about composition, balance, and the element of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507960" y="2743200"/>
            <a:ext cx="2997360" cy="353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4114800" y="4495680"/>
            <a:ext cx="4724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e 5 learns about color schemes, composition and genres of ar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2987640" cy="3343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4191120" y="2971800"/>
            <a:ext cx="4419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Comic Sans MS"/>
              </a:rPr>
              <a:t>Art Production/Materials &amp;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learn how to effectively use various  materials to create original artwor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819520" y="3521160"/>
            <a:ext cx="3867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Grade 5 weaving effectively combines the elements of Line, Color, and Tex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33339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18:17:58Z</dcterms:created>
  <dc:creator>Seaton</dc:creator>
  <dc:description/>
  <dc:language>en-US</dc:language>
  <cp:lastModifiedBy>Rosemary Mitchell</cp:lastModifiedBy>
  <dcterms:modified xsi:type="dcterms:W3CDTF">2008-06-10T18:51:28Z</dcterms:modified>
  <cp:revision>13</cp:revision>
  <dc:subject/>
  <dc:title>PowerPoint Presentation</dc:title>
</cp:coreProperties>
</file>