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168-73FA-475E-88E1-51B9711A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63C-A94A-40F1-BDB7-566D732F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682-9187-42FC-84CE-2BE4BAF8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D77-25EE-430B-98DB-B2C2A196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A86-5E8D-41C4-B56C-307D82AD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64D-7D92-47BC-AAB1-3D1BF1A4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A30-9F7D-40A0-80AB-AEF8A736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3B3-B09D-45CF-AD3C-EC023C43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2B7-A8FE-44EB-A54F-804A3485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E64-4DA9-428E-B65F-D2A68C2D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8F1-D488-4062-8996-B9237FC9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30A-3AB7-4D7D-85B3-DB6FC71F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FE39-9B07-42DE-8E68-5BB02EE39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Comic Sans MS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Comic Sans MS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Comic Sans MS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Rosemary Mitchell</cp:lastModifiedBy>
  <dcterms:modified xsi:type="dcterms:W3CDTF">2008-06-10T18:51:28Z</dcterms:modified>
  <cp:revision>13</cp:revision>
  <dc:subject/>
  <dc:title>PowerPoint Presentation</dc:title>
</cp:coreProperties>
</file>